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7B6-175A-458E-8B5E-C70B83B6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966-4D9B-4844-983F-BDA8ECDC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16A-BFAE-4243-B15F-D8C4B519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385-CD55-4F29-A147-C2704F24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C715-ECB9-4445-9C9A-7D4AC44A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F1CE-B719-4C70-BC25-74564A63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B185-98EF-4E2E-A248-53498CB7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814C-A49D-4D42-BDC4-A8B6D9FE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A376-695C-48B6-9BE2-0438AD65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D0D3-C6D8-4250-8A32-22C504CA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662C-C470-495C-9CF5-DD6B41FD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CE3-700D-4CFD-8976-121A89C7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5AF3-3FDA-40E8-927D-14333606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D4A7-E155-4787-B8FF-A6D9D1FD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D387-3651-4407-A306-D3C52EE5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9098-561C-49CA-866B-D59DFCC0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119F-18AE-4453-97DF-835287B7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F08B4-43AB-4EBA-84D2-884CAFEF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74836-3FCA-43C1-B0C1-A1FB5BD2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8631-5E96-40DD-94B8-6A27A8C3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BB42C-BCCD-42C4-95CD-8539B772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4EAB-D818-43A8-AC69-BAF4C446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A33-31C3-4ED3-9836-D88F2B5E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41BC-1FAB-467C-AC8E-47D5E98D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38488-FF71-47F7-87A2-B39E1F0E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A62E-352D-45E6-9CA0-2DC360C9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70621-8D21-4A81-9198-2588BFC6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3169-C6F7-4439-8BA4-EBF220AD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5957-6769-44BC-A1F5-55B5707A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E27E-A4CD-4192-BAE4-9683F806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61AC9-F4D2-4E26-9FB7-AFD3B40B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5C62A-6796-4992-A5EB-45690F38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2E1F1-A0A9-4BAE-9EDE-F3B1D0AD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C60-B2CF-471D-B206-1B4FFBE7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AD995-FF35-4E7B-8E77-BCFDE790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AA75A-0862-4DA7-8865-636D13DC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C4F07-9788-4D4E-973E-8C9A100E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7F3A8-8038-43FB-9659-753A1DBB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B2F6C-4E9C-46AB-B2E8-BD6DAEBF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055E7-A04C-4140-B726-EEF527EE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A6ADD-23DD-4F84-9859-BAC65ED4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3C24D-81D3-4DB2-AAEF-F39B595F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41C53-503F-45A2-A34D-7C590053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630-F7D8-41E6-BCD8-E182D911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6A7-6305-461D-8A27-5D23882D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B3A-33EB-4AA4-9292-CE433EE1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593-035D-41E9-8C08-CA205B0D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86C-469F-4A91-9DEB-2BFB522F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E1B9-ED43-4AED-809F-E66CB286FDB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33F3-2D73-42B0-9A4E-BD423E2F3E8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8385-D5A9-444F-83CE-EDBB566CB2A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FF3C-7675-463F-8369-1AB3FD8584C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JpLMvgUXe8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iYqFXmVAF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kZBHWzgbFA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6202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2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rles Lindbergh completes the first transatlantic solo flight by airpl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2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October 1929, the U.S. stock market crashes.  This leads to the Great Depres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youtube.com/watch?v=RJpLMvgUXe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3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33 – Franklin D. Roosevelt becomes the U.S. presid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s. Roosevelt’s New Deal program begins.  The hope is that it will counter the Great Depres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zi leader Adolph Hitler comes to power in German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3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ocial Security Act is enac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3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WII begins when Germany invades Pol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rst commercial television broadcast in the U.S. is ai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he American Dream:  Pursuit of a Promis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ee central assump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merica as a New Ed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and of beauty, bounty, and unlimited promi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ny people sought great wealth and pleasure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idea can be seen in F. Scott Fitzgerald’s novel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he Great Gatsb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Belief in Progr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mericans believed in progress—life was just going to keep getting bet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great sense of optimism was felt by most Americ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iumph of the Individu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dividuals are independent and self-relian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 Crack in the World:  Breakdown of Beliefs and Tradi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ld War I and the crash of the stock market 10 years later damaged the American Drea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twar writers became skeptical of the New England Puritan trad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enter of American literary life began to shift away from New Engl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and more modernist writers were from the South, the Midwest, or the We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arxism and the Challenge to Free Enterpris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arl Marx – his socialist beliefs had been the backbone of the Russian Revolution in 191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flicted with the American system of capitalism and free enterpri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Americans believed that certain elements of Marxism would wor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Freud and the Unconscious Min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gmund Freud – founder of psycho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ed the working of the unconscious mi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lieved that our actions are controlled by our subconscio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control over subconscious = no free wi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d to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eam of consciousnes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– a literary technique in which chronology is abandoned in an effort to imitate the moment-by-moment thoughts of a charac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t Home and Abroad:  The Jazz Ag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hibition – the Constitution was amended to prohibit the manufacture and sale of alcohol, which was seen as a central evil (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endmen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youtube.com/watch?v=OiYqFXmVAF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d to the bootlegger, the speak-easy, the cocktail, the flapper, new rhythms of jazz, and the gangs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med the Jazz Age by F. Scott Fitzgeral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men won the right to vote (1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endmen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atriates – American writers and artists who abandoned the U.S. for life in France following WW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nstantia"/>
              </a:rPr>
              <a:t>Social and Political Events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t Home and Abroa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atriates – Americans living abr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erican writers and artists who abandoned the U.S. for life in France following WW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eaper and better to live in Par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re exotic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illed with grace and luxur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No need to go to a cellar for a drink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Grace Under Pressure:  The New American Her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rnest Hemingway – most influential post-World War I wri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famous for his literary sty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educed the “flamboyance” of literary langue to bare bones – no fluf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oduced a new American her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 man of action, a warrior, a tough competito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as a code of honor, courage, enduranc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oroughly disillusioned (Hemingway’s outlook was one of disillusionment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odern Voices in Poetry:  A Dazzling Period of Experiment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tish influence on American poetry was g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erican poets began to experi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lored artistic life of Euro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gan to explore new ways to see and represent rea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mbolism and imag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oices of American Characte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ther American poets rejected modernist tre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ferred to say what they wanted to say in plain American spee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gional diversity of American life and charac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obert Frost – one of the greatest poets of this grou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he Harlem Renaissance:  Voices of the African American Experienc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rly 1920s – black poets began to focus on contributions of African American culture to Ame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etry – based on rhythms of spirituals and jaz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yrics – based on songs known as the b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ction – based on street talk of the ghet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emost po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ames Weldon Johnson, Claude McKay, Langston Hughes, Countee Cull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ographical center – Harl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iritual center – consciousness of African Americ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he American Dream Revise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dernist era – one of the richest periods in American litera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riters of the period experimented boldly with forms and subject mat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1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nama Canal ope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ld War I, also called the Great War, begins in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ld War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erbian student shot and killed Archduke Franz Ferdinand, heir to the Austro-Hungarian thro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mperor Franz Joseph of Austria-Hungary declares war on Serb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ssia, an ally of Serbia, mobilizes for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rmany mobilizes forces and declares war on Russia, France, and Belgiu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1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.S. enters WW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sident Woodrow Wilson asks Congress for a declaration of war on Imperial Germany on April 6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elective Services Act was passed on May 18.  This gave the federal government power to draft young men for the armed for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first wave of American soldiers land in France on July 3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erican troops fire the first shots in trench warfare on Oct. 23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1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reaty of Versailles ends the w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peace treaty was signed by German delegates and allies in Versailles on June 28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2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Harlem Renaiss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youtube.com/watch?v=2kZBHWzgbF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ousands of African Americans from the south and the West Indies migrated to Harlem, New Y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grants sought better economic opportunities, escape from social conditions that were oppressive, and superior educational opportunit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riters of the period included Langston Hughes, Claude McKay, Countee Cullen, and Zora Neale Hurst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sicians included Billie Holiday, Duke Ellington, and Louis Armstro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2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endment prohibited the manufacture, sale, transport, import, or export of alcoholic bevera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braska was the 36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state to ratify the amendment on Jan. 17, 1919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endment became law on Jan. 16, 192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2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1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endment gave women the right to vo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was passed by Congress on June 4, 1919 and ratified on Aug. 18, 192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00:23:10Z</dcterms:created>
  <dc:creator>pcoles</dc:creator>
  <dc:description/>
  <dc:language>en-US</dc:language>
  <cp:lastModifiedBy>pcoles</cp:lastModifiedBy>
  <dcterms:modified xsi:type="dcterms:W3CDTF">2011-01-12T01:40:03Z</dcterms:modified>
  <cp:revision>40</cp:revision>
  <dc:subject/>
  <dc:title>The Moderns</dc:title>
</cp:coreProperties>
</file>